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94D0-D082-4CC9-B8AE-4A7B9EC55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E012-CD4A-4F62-AC3F-5A56DC57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7519-20E5-43A5-86EE-CB7B3808B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AE41-ADBD-4417-9B91-9E5CD7E2A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42F8-D12E-4EE5-93D2-CE0B3AEDA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269D-7488-4A26-9D0E-6DD0669C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A8D8-52CD-426E-9FD1-4DAD8EE2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C547-77AA-4D5F-B8A6-A15935E8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7D7C-41E4-42C2-9E0A-0522AF88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4365-416A-41D4-9A3E-BA096A3F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B4FF-676D-4B7B-A642-E48E1230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06D2-293E-4BF4-8335-05CA6D6C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F372-1393-411A-A003-DE4A13DF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B8F1-7547-48DF-BB16-AD5A4929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26CA-D0FB-43ED-9CB6-D847595D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3502-8ABF-4ADE-B74E-3537D09F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3E08-E806-477C-8AED-F89FD5F5C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1E9E3-87CB-49D4-A513-F16106C1C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0F6AD-1844-43D7-AC59-D9F84808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794CA-0880-4984-80C8-7F548A06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96721-13A9-4209-B207-5EFFA740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857AE-3B72-48A9-BA24-AD159008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3122-95B0-4538-8A2D-CD51CEEA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D0CEC-E09C-4764-A917-5A96AB0C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6DBD5-AAC4-4191-9A66-2BA67AE7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81FE8-0312-48EE-B6B5-989875E3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FF49D-741B-4B58-9F93-591DD180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D21AB-634B-4124-964F-D3514C4D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D6F8F-FE65-4BB1-B5A7-328653F3B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B2D18-FC3F-4833-92A7-B895D962F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A53A1-BA6C-4CCD-993E-F7514899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00445-A97C-4F38-B79C-9DDC462F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91CEF-B0C9-4DC1-A1F9-53E73AB5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572A-A594-4C22-97DF-7F228B11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E32B5-D6E3-4F0B-9C4C-F1AE68AA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BFE60-8ADB-4172-8688-AACD7583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26E11-F046-4932-A618-853A9025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C58BD-7DFB-41B0-9284-288DD21C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232B0-2751-4EE6-967E-7059C5AA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74F90-16F9-47FF-8EDC-F502B896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0C794-0AF7-4069-87EF-059DB9EB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94DF9-D20D-4808-B448-8708C4DA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9B73F-1967-44FB-8F74-33CFC6D40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71C1-0105-4A1C-8108-F13AAA4D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2480-AB7D-464B-9895-B7AD7181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9ACE-9178-47E4-A083-E9C72C65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9511-1EFA-48B2-940B-AB805796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B1A8-5D5A-4E31-BBBC-E6F39BFD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1" marL="722160" indent="-272880">
              <a:spcBef>
                <a:spcPts val="751"/>
              </a:spcBef>
              <a:buClr>
                <a:srgbClr val="7fd13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2" marL="1004760" indent="-255600">
              <a:spcBef>
                <a:spcPts val="751"/>
              </a:spcBef>
              <a:buClr>
                <a:srgbClr val="ea157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3" marL="1279440" indent="-236520">
              <a:spcBef>
                <a:spcPts val="751"/>
              </a:spcBef>
              <a:buClr>
                <a:srgbClr val="feb80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4" marL="1488960" indent="-182520">
              <a:spcBef>
                <a:spcPts val="751"/>
              </a:spcBef>
              <a:buClr>
                <a:srgbClr val="00add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dadb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dadbc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dadb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46F6-49FE-426C-BC45-4ED8AB762C63}" type="slidenum">
              <a:rPr b="0" lang="en-US" sz="1000" spc="-1" strike="noStrike">
                <a:solidFill>
                  <a:srgbClr val="9dadbc"/>
                </a:solidFill>
                <a:latin typeface="Gill Sans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1" marL="722160" indent="-272880">
              <a:spcBef>
                <a:spcPts val="751"/>
              </a:spcBef>
              <a:buClr>
                <a:srgbClr val="7fd13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2" marL="1004760" indent="-255600">
              <a:spcBef>
                <a:spcPts val="751"/>
              </a:spcBef>
              <a:buClr>
                <a:srgbClr val="ea157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3" marL="1279440" indent="-236520">
              <a:spcBef>
                <a:spcPts val="751"/>
              </a:spcBef>
              <a:buClr>
                <a:srgbClr val="feb80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4" marL="1488960" indent="-182520">
              <a:spcBef>
                <a:spcPts val="751"/>
              </a:spcBef>
              <a:buClr>
                <a:srgbClr val="00add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dadb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dadbc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dadb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C9F0-F4DD-4AAE-9D00-E4AE56574A92}" type="slidenum">
              <a:rPr b="0" lang="en-US" sz="1000" spc="-1" strike="noStrike">
                <a:solidFill>
                  <a:srgbClr val="9dadbc"/>
                </a:solidFill>
                <a:latin typeface="Gill Sans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1" marL="722160" indent="-272880">
              <a:spcBef>
                <a:spcPts val="751"/>
              </a:spcBef>
              <a:buClr>
                <a:srgbClr val="7fd13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2" marL="1004760" indent="-255600">
              <a:spcBef>
                <a:spcPts val="751"/>
              </a:spcBef>
              <a:buClr>
                <a:srgbClr val="ea157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3" marL="1279440" indent="-236520">
              <a:spcBef>
                <a:spcPts val="751"/>
              </a:spcBef>
              <a:buClr>
                <a:srgbClr val="feb80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4" marL="1488960" indent="-182520">
              <a:spcBef>
                <a:spcPts val="751"/>
              </a:spcBef>
              <a:buClr>
                <a:srgbClr val="00add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dadb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dadbc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dadb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E7E8-C596-47DD-A2EF-91DC3EB66F00}" type="slidenum">
              <a:rPr b="0" lang="en-US" sz="1000" spc="-1" strike="noStrike">
                <a:solidFill>
                  <a:srgbClr val="9dadbc"/>
                </a:solidFill>
                <a:latin typeface="Gill Sans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1" marL="722160" indent="-272880">
              <a:spcBef>
                <a:spcPts val="751"/>
              </a:spcBef>
              <a:buClr>
                <a:srgbClr val="7fd13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2" marL="1004760" indent="-255600">
              <a:spcBef>
                <a:spcPts val="751"/>
              </a:spcBef>
              <a:buClr>
                <a:srgbClr val="ea157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3" marL="1279440" indent="-236520">
              <a:spcBef>
                <a:spcPts val="751"/>
              </a:spcBef>
              <a:buClr>
                <a:srgbClr val="feb80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4" marL="1488960" indent="-182520">
              <a:spcBef>
                <a:spcPts val="751"/>
              </a:spcBef>
              <a:buClr>
                <a:srgbClr val="00add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dadb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dadbc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dadb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009B-414D-4831-8BE4-CC97B1F04D36}" type="slidenum">
              <a:rPr b="0" lang="en-US" sz="1000" spc="-1" strike="noStrike">
                <a:solidFill>
                  <a:srgbClr val="9dadbc"/>
                </a:solidFill>
                <a:latin typeface="Gill Sans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Заголовок 1" descr=""/>
          <p:cNvPicPr/>
          <p:nvPr/>
        </p:nvPicPr>
        <p:blipFill>
          <a:blip r:embed="rId1"/>
          <a:stretch/>
        </p:blipFill>
        <p:spPr>
          <a:xfrm>
            <a:off x="993600" y="963720"/>
            <a:ext cx="7540920" cy="40464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352320" y="5181120"/>
            <a:ext cx="5295960" cy="11430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76e"/>
                </a:solidFill>
                <a:latin typeface="Calibri"/>
              </a:rPr>
              <a:t>Садыкова Г.Б. учитель начальных классов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96440" cy="1325520"/>
          </a:xfrm>
          <a:prstGeom prst="rect">
            <a:avLst/>
          </a:prstGeom>
          <a:gradFill rotWithShape="0">
            <a:gsLst>
              <a:gs pos="0">
                <a:srgbClr val="879db1"/>
              </a:gs>
              <a:gs pos="100000">
                <a:srgbClr val="cdf0ff"/>
              </a:gs>
            </a:gsLst>
            <a:lin ang="12960000"/>
          </a:gradFill>
          <a:ln w="9360">
            <a:solidFill>
              <a:srgbClr val="bfbfbf"/>
            </a:solidFill>
            <a:miter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txBody>
          <a:bodyPr lIns="45720" rIns="4572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Ожидаемые результаты: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752120"/>
            <a:ext cx="8305920" cy="4800600"/>
          </a:xfrm>
          <a:prstGeom prst="rect">
            <a:avLst/>
          </a:prstGeom>
          <a:gradFill rotWithShape="0">
            <a:gsLst>
              <a:gs pos="0">
                <a:srgbClr val="879db1"/>
              </a:gs>
              <a:gs pos="100000">
                <a:srgbClr val="cdf0ff"/>
              </a:gs>
            </a:gsLst>
            <a:lin ang="12960000"/>
          </a:gradFill>
          <a:ln w="6480">
            <a:solidFill>
              <a:srgbClr val="7fd13b"/>
            </a:solidFill>
            <a:miter/>
          </a:ln>
        </p:spPr>
        <p:txBody>
          <a:bodyPr anchor="t">
            <a:normAutofit/>
          </a:bodyPr>
          <a:p>
            <a:pPr marL="419040" indent="-382680">
              <a:lnSpc>
                <a:spcPct val="130000"/>
              </a:lnSpc>
              <a:spcBef>
                <a:spcPts val="649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вышение качества школьного образования.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419040" indent="-382680">
              <a:lnSpc>
                <a:spcPct val="130000"/>
              </a:lnSpc>
              <a:spcBef>
                <a:spcPts val="649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зитивная динамика в изменениях отношений “учитель-ученик-родители”.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419040" indent="-382680">
              <a:lnSpc>
                <a:spcPct val="130000"/>
              </a:lnSpc>
              <a:spcBef>
                <a:spcPts val="649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вышение качества образовательного процесса и труда педагогического коллектива.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419040" indent="-382680">
              <a:lnSpc>
                <a:spcPct val="130000"/>
              </a:lnSpc>
              <a:spcBef>
                <a:spcPts val="649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вышение профессионального уровня учителей.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419040" indent="-382680">
              <a:lnSpc>
                <a:spcPct val="130000"/>
              </a:lnSpc>
              <a:spcBef>
                <a:spcPts val="649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вышение уровня деятельности школы по всем направлениям.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533160" y="609480"/>
            <a:ext cx="7467480" cy="559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  <a:p>
            <a:pPr marL="419040" indent="-3826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  <a:p>
            <a:pPr marL="419040" indent="-3826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  <a:p>
            <a:pPr marL="419040" indent="-3826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  <a:p>
            <a:pPr marL="419040" indent="-3826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Спасибо за внимание !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6840" y="762120"/>
            <a:ext cx="80010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419040" indent="-3826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стерство – это то, чего можно добиться, и как могут быть известны мастер-токарь, прекрасный мастер-врач, так должен и может быть прекрасным мастером педагог…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419040" indent="-3826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.С. Макаренко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gradFill rotWithShape="0">
            <a:gsLst>
              <a:gs pos="0">
                <a:srgbClr val="8ed75b"/>
              </a:gs>
              <a:gs pos="100000">
                <a:srgbClr val="6fc824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txBody>
          <a:bodyPr lIns="45720" rIns="4572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Термин «портфолио»</a:t>
            </a:r>
            <a:br>
              <a:rPr sz="4100"/>
            </a:br>
            <a:endParaRPr b="0" lang="en-US" sz="3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33520" y="167652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ртфолио – это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писание в фактах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дагогических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ачеств и достижений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еля, педагога, включающее в себя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пектр документо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формирующий представление о специфике подхода и мере его профессиональной эффективности.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Заголовок 1"/>
          <p:cNvGrpSpPr/>
          <p:nvPr/>
        </p:nvGrpSpPr>
        <p:grpSpPr>
          <a:xfrm>
            <a:off x="390600" y="255600"/>
            <a:ext cx="7753320" cy="1506600"/>
            <a:chOff x="390600" y="255600"/>
            <a:chExt cx="7753320" cy="1506600"/>
          </a:xfrm>
        </p:grpSpPr>
        <p:pic>
          <p:nvPicPr>
            <p:cNvPr id="18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90600" y="255600"/>
              <a:ext cx="7753320" cy="15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57200" y="304920"/>
              <a:ext cx="7620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Цели  и задачи портфолио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"/>
          <p:cNvSpPr txBox="1"/>
          <p:nvPr/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ь портфоли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проанализировать и представить значимые профессиональные результаты, обеспечить мониторинг профессионального роста учителя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дачи портфолио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ирование профессиональных характеристик педагога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профессиональной самоорганизации, ключевых компетенций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ышение результативности и эффективности профессиональной педагогической и управленческой деятельности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действие профессиональному росту педагогов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4190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gradFill rotWithShape="0">
            <a:gsLst>
              <a:gs pos="0">
                <a:srgbClr val="ffc047"/>
              </a:gs>
              <a:gs pos="100000">
                <a:srgbClr val="e5ad00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иды профессионального портфолио учителя</a:t>
            </a:r>
            <a:endParaRPr b="0" lang="en-US" sz="3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09120" y="15998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ортфолио развития  -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обирается в процессе педагогической деятельности с целью оценки прогресса в работе учителя и накопленного им опыта в течение определённого времени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отчётный портфолио –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видетельствует о достижении учителем определённого результата при завершении работы над каким-либо проектом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демонстрационный портфолио –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это коллекция лучших работ учителя. Данный портфолио используется для интервью при приёме на работу или для участия в профессиональном конкурсе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467480" cy="1447920"/>
          </a:xfrm>
          <a:prstGeom prst="rect">
            <a:avLst/>
          </a:prstGeom>
          <a:gradFill rotWithShape="0">
            <a:gsLst>
              <a:gs pos="0">
                <a:srgbClr val="ef4a89"/>
              </a:gs>
              <a:gs pos="100000">
                <a:srgbClr val="e3006b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Функции портфолио</a:t>
            </a:r>
            <a:endParaRPr b="0" lang="en-US" sz="3600" spc="-1" strike="noStrike">
              <a:solidFill>
                <a:srgbClr val="ffffff"/>
              </a:solidFill>
              <a:latin typeface="Bookman Old Style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57200" y="1752480"/>
          <a:ext cx="8305920" cy="4191120"/>
        </p:xfrm>
        <a:graphic>
          <a:graphicData uri="http://schemas.openxmlformats.org/drawingml/2006/table">
            <a:tbl>
              <a:tblPr/>
              <a:tblGrid>
                <a:gridCol w="4152960"/>
                <a:gridCol w="4152960"/>
              </a:tblGrid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копительн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157a"/>
                      </a:solidFill>
                    </a:lnL>
                    <a:lnR w="5760">
                      <a:solidFill>
                        <a:srgbClr val="ea157a"/>
                      </a:solidFill>
                    </a:lnR>
                    <a:lnT w="5760">
                      <a:solidFill>
                        <a:srgbClr val="ea157a"/>
                      </a:solidFill>
                    </a:lnT>
                    <a:lnB w="12240">
                      <a:solidFill>
                        <a:srgbClr val="ea157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дельн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157a"/>
                      </a:solidFill>
                    </a:lnL>
                    <a:lnR w="5760">
                      <a:solidFill>
                        <a:srgbClr val="ea157a"/>
                      </a:solidFill>
                    </a:lnR>
                    <a:lnT w="5760">
                      <a:solidFill>
                        <a:srgbClr val="ea157a"/>
                      </a:solidFill>
                    </a:lnT>
                    <a:lnB w="12240">
                      <a:solidFill>
                        <a:srgbClr val="ea157a"/>
                      </a:solidFill>
                    </a:lnB>
                    <a:noFill/>
                  </a:tcPr>
                </a:tc>
              </a:tr>
              <a:tr h="33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тижения учител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грамоты, дипломы, удостоверения, сертификаты и т.п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бор рабочих материалов (конспекты открытых уроков, опорные конспекты, тесты, практические и лабораторные работы и т.п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157a"/>
                      </a:solidFill>
                    </a:lnL>
                    <a:lnR w="5760">
                      <a:solidFill>
                        <a:srgbClr val="ea157a"/>
                      </a:solidFill>
                    </a:lnR>
                    <a:lnT w="12240">
                      <a:solidFill>
                        <a:srgbClr val="ea157a"/>
                      </a:solidFill>
                    </a:lnT>
                    <a:lnB w="5760">
                      <a:solidFill>
                        <a:srgbClr val="ea157a"/>
                      </a:solidFill>
                    </a:lnB>
                    <a:solidFill>
                      <a:srgbClr val="ea157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ражает динамику развития учителя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ывает результаты           самообразования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монстрирует стиль преподавания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воляет проводить рефлексию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могает спланировать деятель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157a"/>
                      </a:solidFill>
                    </a:lnL>
                    <a:lnR w="5760">
                      <a:solidFill>
                        <a:srgbClr val="ea157a"/>
                      </a:solidFill>
                    </a:lnR>
                    <a:lnT w="12240">
                      <a:solidFill>
                        <a:srgbClr val="ea157a"/>
                      </a:solidFill>
                    </a:lnT>
                    <a:lnB w="5760">
                      <a:solidFill>
                        <a:srgbClr val="ea157a"/>
                      </a:solidFill>
                    </a:lnB>
                    <a:solidFill>
                      <a:srgbClr val="ea157a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401840"/>
          </a:xfrm>
          <a:prstGeom prst="rect">
            <a:avLst/>
          </a:prstGeom>
          <a:gradFill rotWithShape="0">
            <a:gsLst>
              <a:gs pos="0">
                <a:srgbClr val="8497cf"/>
              </a:gs>
              <a:gs pos="100000">
                <a:srgbClr val="5c76ba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txBody>
          <a:bodyPr lIns="45720" rIns="4572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Практическая значимость </a:t>
            </a:r>
            <a:br>
              <a:rPr sz="4100"/>
            </a:br>
            <a:endParaRPr b="0" lang="en-US" sz="3600" spc="-1" strike="noStrike">
              <a:solidFill>
                <a:srgbClr val="ffffff"/>
              </a:solidFill>
              <a:latin typeface="Bookman Old Style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57200" y="1828800"/>
          <a:ext cx="8229600" cy="4343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ля учител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38a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ля администра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38ac8"/>
                    </a:solidFill>
                  </a:tcPr>
                </a:tc>
              </a:tr>
              <a:tr h="36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ышение профессионального мастерства (качество)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альное представление о результатах деятельности и резервах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ование для аттестации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ова для участия в конкурсных и грантовых программах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ъявление результатов социуму через систематизацию наработ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цензирование, аттестация, аккредитация ОУ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ширение методического диапазона ОУ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ование для назначения стимулирующих выплат и денежного вознаграждения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ниторинг эффективности работы учителя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ективность системы оценивания успешности учителя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грация количественной и качественной оценок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aeb"/>
                    </a:solidFill>
                  </a:tcPr>
                </a:tc>
              </a:tr>
            </a:tbl>
          </a:graphicData>
        </a:graphic>
      </p:graphicFrame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467480" cy="126540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Принципы работы</a:t>
            </a:r>
            <a:endParaRPr b="0" lang="en-US" sz="3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3560" indent="-45720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прерывность самомониторинга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493560" indent="-45720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ледовательность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493560" indent="-45720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товерность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493560" indent="-45720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ективность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493560" indent="-45720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493560" indent="-45720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огичность и лаконичность всех материалов и пояснений к ним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493560" indent="-45720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куратность и эстетичность оформления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493560" indent="-45720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глядность результатов работы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493560" indent="-45720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хнологичность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493560" indent="-45720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ворчество (оригинальность)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143000"/>
          </a:xfrm>
          <a:prstGeom prst="rect">
            <a:avLst/>
          </a:prstGeom>
          <a:gradFill rotWithShape="0">
            <a:gsLst>
              <a:gs pos="0">
                <a:srgbClr val="ffc047"/>
              </a:gs>
              <a:gs pos="100000">
                <a:srgbClr val="e5ad00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mbria"/>
              </a:rPr>
              <a:t>Структура 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(содержание) </a:t>
            </a:r>
            <a:r>
              <a:rPr b="1" lang="ru-RU" sz="3600" spc="-1" strike="noStrike">
                <a:solidFill>
                  <a:srgbClr val="ffffff"/>
                </a:solidFill>
                <a:latin typeface="Cambria"/>
              </a:rPr>
              <a:t>портфолио</a:t>
            </a:r>
            <a:endParaRPr b="0" lang="en-US" sz="3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gradFill rotWithShape="0">
            <a:gsLst>
              <a:gs pos="0">
                <a:srgbClr val="ffd99d"/>
              </a:gs>
              <a:gs pos="100000">
                <a:srgbClr val="ffce7a"/>
              </a:gs>
            </a:gsLst>
            <a:lin ang="5400000"/>
          </a:gradFill>
          <a:ln w="6480">
            <a:solidFill>
              <a:srgbClr val="feb80a"/>
            </a:solidFill>
            <a:miter/>
          </a:ln>
        </p:spPr>
        <p:txBody>
          <a:bodyPr anchor="t">
            <a:normAutofit/>
          </a:bodyPr>
          <a:p>
            <a:pPr marL="419040" indent="-382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аздел 1.   “Общие сведения об учителе”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419040" indent="-382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аздел 2. “Самоанализ педагогической деятельности”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419040" indent="-382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аздел 3.   “Результаты педагогической   деятельности”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419040" indent="-382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аздел 4.   “Научно-методическая деятельность”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419040" indent="-382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аздел 5.   “Внеурочная деятельность по предмету”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419040" indent="-382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аздел 6.   “Учебно-материальная база”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419040" indent="-382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аздел 7.   “Работа в качестве классного руководителя”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419040" indent="-382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аздел 8.   “Отзывы”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1</dc:creator>
  <dc:description/>
  <dc:language>en-US</dc:language>
  <cp:lastModifiedBy>N1</cp:lastModifiedBy>
  <dcterms:modified xsi:type="dcterms:W3CDTF">2022-12-05T07:52:48Z</dcterms:modified>
  <cp:revision>67</cp:revision>
  <dc:subject/>
  <dc:title> </dc:title>
</cp:coreProperties>
</file>