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32AD-1EB3-4476-A4E5-D636634451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FBBE-FFC4-4B01-9D31-706092FE4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C33-6A20-437A-8866-09DBFDE1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026-790B-4D21-8665-8FC4F080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5D9-F4B3-472A-AB91-ECBDA0F1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C0D-18B9-4A41-A2C7-14EE256D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F4F2-C071-4FCC-8F1E-4B8B44BB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D7AC-AF4A-4DC4-BF22-A6ED0D2B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1956-37A5-4930-8427-D057B14F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BB17-5A6F-470F-BE2C-199F6DA2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1DF2-407B-413F-A4BE-3AC5C5EA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CD8A-04AD-431B-B39C-9F5B40E3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A755-151E-46BC-A5D8-2B268BC9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608-2693-45DD-9DC2-BF4D110B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D828-AE02-40F5-9FA6-9122F5DB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F652-59B5-4701-9D12-34DC4C6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425C-857E-4DAA-8965-289C7C53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8397-6FAF-4D5C-B602-3FC5A615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0D69-05E0-4E72-83DA-A853604A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342-669D-406D-99FE-CF5AA979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E02-C656-4C5D-9F1A-D9D81C85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718-2DE0-4C6D-921F-F015E7CD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6BF-BDD1-4315-8C32-CF5E95E0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4A7-9812-41F8-9A06-4792443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AFE-32E6-4EAD-95C7-AA859657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332-0D44-4401-8DAF-55FF7D5B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AED3-5EF5-48E4-8633-63DC6B409BA2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DCF3-17A5-4B6F-A6FC-84739A63CC21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6760" y="928440"/>
            <a:ext cx="837108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Методика обобщения педагогического опыта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68360" y="609300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85920" y="414288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егиональная стажировочная площадка для молодых педагогов «Молодые профессионалы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9.10.202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Этапы работы над обобщением  своего опыт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ыбор темы, осуществление дифференцированного подхода к своему опыту, отбор для методической обработки какой-то определенной части, представляющей наибольший интерес и актуальнос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Что может быть опытом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9288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алгоритмы учебных действий по направлению деятельност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технология занятия или элементы технолог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авторская программ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система методических приемов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эффективные средства обучени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реализация принципов обучени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эффективная система оценки знаний (аттестация обучающихся) и др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Этапы работы над обобщением  своего опыт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Ознакомление с литературой по избранной теме. Это необходимо для теоретического осмысления темы и сопоставления своего опыта с отраженным в литературе опытом других педагогов по данному вопрос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.Планирование работы по избранной тем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.   Сбор и обработка материала. Систематизация ранее накопленных фактов из опыта, привлечение нового материала для более полного раскрытия вопроса, проверка некоторых своих положений и выводов, т.е. включение  в работу элементов экспериментального характер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Примерный перечень материалов       из опыта работы педагог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исание опыта работ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отография педагог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отографии кабинета, стендов, наглядных пособий и т.п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лан самообразовательной работ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зработки мероприятий, сценарии вечеров, праздников, встреч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лан работ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исание экскурсий, походов, экспедиций                         с приложением фотографий, дневник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ксты своих лекций, выступлений, докладов, рефератов и т.п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бота по изучению своей области, района и т.д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рточка передового педагогического опыта работ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Этапы работы над обобщением  своего опыт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5.   Анализ и обобщение накопленного по теме материала. Выявление в освещаемом опыте причинно-следственных связей и педагогических закономерностей, извлечение методических выводов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6.   Соответствующее литературное оформление. Работа над докладом или статьей: освещение принципиальных положений, исходя из которых,  педагог подошел к данной теме; описание и обобщение своего опыта по данному вопросу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Приложения к опыту работы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30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лгоритм подготовки к занятию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лгоритм проведения занятий и других видов деятельност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нспекты занятий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аны учебно-воспитательной работы с детьм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дукты детской деятельност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отографи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удио-видео-запис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идактический материал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убликации в СМ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ступления на методических мероприятиях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едагогическая диагностика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бочая программа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ан работы с детьм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5.Каковы формы обобщения и представления опыта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2" name="Содержимое 3" descr="istockphoto-161000352-1024x1024.jpg"/>
          <p:cNvPicPr/>
          <p:nvPr/>
        </p:nvPicPr>
        <p:blipFill>
          <a:blip r:embed="rId1"/>
          <a:stretch/>
        </p:blipFill>
        <p:spPr>
          <a:xfrm>
            <a:off x="2928960" y="1568520"/>
            <a:ext cx="35719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Формы обобщения и представления опыт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28840"/>
            <a:ext cx="8715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оведение семинаров, конференций, практикумов, собеседований, имитационных игр, организация консультаций, выставок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крытые занятия по различным темам и вопросам учебно-воспитательной работы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учно-методическая и научно-практическая конференции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дагогическая выставка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еминарские занятия по проблемам педагогики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актикумы по разработке методики изучения и обобщения педагогического опыта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ворческий отчет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нспекты занятий с методическими выводами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клад на семинаре, педсовете, статьи в журналах, методические письма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ематическая выставка методических материалов из опыта работы (стенды, альбомы, технологические карты, шаблоны, образцы изделий, наглядные пособия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общение - описание с методическими вывода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Рекомендации по оформлению и содержанию материалов о педагогическом опыт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Титульный лис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Информационный лис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Реценз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Оглавл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Основная аналитическая част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ыводы и рекомендаци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Прилож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Информационная карта ПО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Проблем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Условия возникновения, становления опыт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Актуальнос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Теоретическая база опыт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Сущность метод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Основные компонент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Новизн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Результативнос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X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Ведущая педагогическая иде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Адресная направленнос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Трудоемкос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57160" y="15717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Не в количестве знаний заключается образование, а в полном понимании и искусном применении всего того, что знаешь.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А.Дистервег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6.Где распространить опыт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0" name="Содержимое 6" descr="2fb9MmpH-mQ.jpg"/>
          <p:cNvPicPr/>
          <p:nvPr/>
        </p:nvPicPr>
        <p:blipFill>
          <a:blip r:embed="rId1"/>
          <a:stretch/>
        </p:blipFill>
        <p:spPr>
          <a:xfrm>
            <a:off x="571680" y="2214720"/>
            <a:ext cx="79722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аспространение опы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едагогический совет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аседание методического объединени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ворческий отчет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личные конкурсы педагогического мастерства (педагог года, урок года, конкурсы методических разработок и др.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учно-практические конфер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убликации в методических журналах и на педагогических сайтах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астер-классы; семинар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Где использовать обобщенный педагогический опыт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ттестация, портфоли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П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нкурс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лан работ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ема самообразова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правление деятель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атериал для обобщ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орма обобщения опы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 распростран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арианты использова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485200" cy="6397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39607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Схема описания ПО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итульный лист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общённый педагогический опыт педагога муниципального образовательного учреждения (полное название учреждения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.И.О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ма опы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дея опыта (главная цель)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Схема описания П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Сведения об авторе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.И.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раз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звание (полное) учебного заведения, год его оконча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пециальность по диплом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сто работ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лжнос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дагогический стаж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аж работы в занимаемой должнос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валификац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грады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Схема описания ПО                                   по модульной технологии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Условия формирования опыта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казать условие становления опыта (что натолкнуло педагога на идею формирования опыта). Например, на формирование опыта работы оказали влияние следующие факторы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учение методической литературы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учение опыта коллег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рсовая переподготовка: курсы повышения квалификации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ктивное участие в работе методических объединений и т.д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Схема описания П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Теоретическая база опыт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казать какие теории, положения, законы, закономерности творчески реализуются педагог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Актуальность и перспективность опы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Новизна опыта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Схема описания П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6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Адресность опыта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казать адресную направленность: каким педагогам рекомендовано использовать этот опыт (педагогам с высокой планкой мастерства, начинающим педагогам и т.д.). определить область применения опыта (в группах раннего возраста; в группах коррекции, на отдельных занятиях и т.д.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7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Трудоёмкость опыта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анализировать трудоёмкость опыта. Педагог должен указать в чём состоят трудности при использовании данного опыт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Что такое педагогический опыт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Содержимое 5" descr="24360176-office-girl-with-question-mark.jpg"/>
          <p:cNvPicPr/>
          <p:nvPr/>
        </p:nvPicPr>
        <p:blipFill>
          <a:blip r:embed="rId1"/>
          <a:stretch/>
        </p:blipFill>
        <p:spPr>
          <a:xfrm>
            <a:off x="2214720" y="1428840"/>
            <a:ext cx="4286160" cy="47624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Схема описания ППО                                   по модульной технологии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Технология опыт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хнология опыта раскрывается в системе конкретных педагогических действий, в организации содержания воспитательно-образовательного процесса, в приёмах и методах воспитания и обучения детей. Описывается и анализируется то, что педагогу удалось и дало положительный результа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9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Результативность опыт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Из педагогического словаря                 под редакцией Г.М.Коджаспирова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едагогический опыт  - активное освоение и реализация педагогом в практике законов и принципов педагогики с учётом конкретных условий, особенностей детей, детского коллектива и собственной личности; передовой опыт характеризуется тем,              что педагог получает лучшие результаты         за счёт усовершенствования имеющихся средств, оптимальной организации педагогического процесса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2.Каким же представляется педагог, обладающий педагогическим опытом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Содержимое 3" descr="e1912e35c6c0c57855e780a1e17cee73.jpg"/>
          <p:cNvPicPr/>
          <p:nvPr/>
        </p:nvPicPr>
        <p:blipFill>
          <a:blip r:embed="rId1"/>
          <a:stretch/>
        </p:blipFill>
        <p:spPr>
          <a:xfrm>
            <a:off x="642960" y="1785960"/>
            <a:ext cx="777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валифицированный педагог отличаетс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356840"/>
            <a:ext cx="9144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фессиональной компетентностью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амостоятельностью суждени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ением прогнозировать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ением проектировать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граммировать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ланировать и организовывать творческую деятельность свою и обучающихс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ализировать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перативно принимать реш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3.Каковы критерии педагогического опыт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Содержимое 3" descr="1646860894_38-kartinkin-net-p-uchitelnitsa-kartinki-38.jpg"/>
          <p:cNvPicPr/>
          <p:nvPr/>
        </p:nvPicPr>
        <p:blipFill>
          <a:blip r:embed="rId1"/>
          <a:stretch/>
        </p:blipFill>
        <p:spPr>
          <a:xfrm>
            <a:off x="800280" y="160020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Критерии (показатели) отбора 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ктуальность, соответствие тенденциям общественного развития, социальному заказ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ответствие современным достижениям педагогики и методики, научная обоснованност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ысокая результативность и эффективность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личие элементов новизн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абильность результатов учебно-воспитательного процесс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хнологичность, оптимальное расходование сил и средств педагогов и детей для достижения устойчивых положительных результатов обучения, воспитания и развит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спективнос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.Какова последовательность работы по обобщению педагогического опыта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8" name="Содержимое 3" descr="molodyie.png"/>
          <p:cNvPicPr/>
          <p:nvPr/>
        </p:nvPicPr>
        <p:blipFill>
          <a:blip r:embed="rId1"/>
          <a:stretch/>
        </p:blipFill>
        <p:spPr>
          <a:xfrm>
            <a:off x="1265400" y="1600200"/>
            <a:ext cx="66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1:00:21Z</dcterms:created>
  <dc:creator>Андрей</dc:creator>
  <dc:description/>
  <dc:language>en-US</dc:language>
  <cp:lastModifiedBy>компьютер</cp:lastModifiedBy>
  <dcterms:modified xsi:type="dcterms:W3CDTF">2022-10-18T16:54:18Z</dcterms:modified>
  <cp:revision>81</cp:revision>
  <dc:subject/>
  <dc:title>Методика обобщения педагогического опы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11049</vt:lpwstr>
  </property>
</Properties>
</file>