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jpeg" ContentType="image/jpe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DEB-3900-45EA-B0DE-A168C448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732-394A-4C2B-A23D-603DC382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E13-C8FC-4054-ADE8-AA8F8742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56B-B20F-4F8A-B97E-975052B8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59F-A60D-4A74-95D0-585FC9E1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1CE-33A1-4D1A-872A-8FF0AF32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AC4-43F3-4546-A810-2781016D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806-AE4F-43F9-B935-2895F5FA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F9B-4EC2-4E7A-BFE8-F2DB9780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BFB-040A-464F-9F9F-5EAE3D53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4FA-8205-4D09-A181-B05F3D6F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7E9-5151-46F0-8147-E19E462D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0FAF-4033-474F-A05D-C0CBC786E6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tapoc.trbo.yandex.net/tapoc_secure_proxy/3c350cff4b874bdb438d0b833c1db066?url=http%3A%2F%2Fmult.me%2Fuploads%2Fposts%2F2009-08%2F1250791688_08900000.jpg"/>
          <p:cNvPicPr/>
          <p:nvPr/>
        </p:nvPicPr>
        <p:blipFill>
          <a:blip r:embed="rId1"/>
          <a:stretch/>
        </p:blipFill>
        <p:spPr>
          <a:xfrm>
            <a:off x="835200" y="961920"/>
            <a:ext cx="98647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7920" y="271440"/>
            <a:ext cx="1051560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Аттестация способствует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446040" y="1720800"/>
            <a:ext cx="11171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  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сту педагогического мастерств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    повышению уровня воспитательно-образовательной деятельности педагогов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    активному внедрению в практику новых направлений и технологи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    развитию творческой инициативы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    активизации работы по изучению, обобщению и распространению передового  педагогического опыт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    пополнению методических кабинетов образовательных учреждений материалами  из опыта работы аттестуем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: скругленные углы 3"/>
          <p:cNvGrpSpPr/>
          <p:nvPr/>
        </p:nvGrpSpPr>
        <p:grpSpPr>
          <a:xfrm>
            <a:off x="195120" y="152280"/>
            <a:ext cx="11765160" cy="1000080"/>
            <a:chOff x="195120" y="152280"/>
            <a:chExt cx="11765160" cy="1000080"/>
          </a:xfrm>
        </p:grpSpPr>
        <p:pic>
          <p:nvPicPr>
            <p:cNvPr id="92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195120" y="152280"/>
              <a:ext cx="117651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64960" y="219240"/>
              <a:ext cx="1162692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" name="Прямоугольник 6" descr=""/>
          <p:cNvPicPr/>
          <p:nvPr/>
        </p:nvPicPr>
        <p:blipFill>
          <a:blip r:embed="rId2"/>
          <a:stretch/>
        </p:blipFill>
        <p:spPr>
          <a:xfrm>
            <a:off x="255600" y="219240"/>
            <a:ext cx="11680920" cy="1012680"/>
          </a:xfrm>
          <a:prstGeom prst="rect">
            <a:avLst/>
          </a:prstGeom>
          <a:ln w="0">
            <a:noFill/>
          </a:ln>
        </p:spPr>
      </p:pic>
      <p:sp>
        <p:nvSpPr>
          <p:cNvPr id="95" name="Содержимое 2"/>
          <p:cNvSpPr/>
          <p:nvPr/>
        </p:nvSpPr>
        <p:spPr>
          <a:xfrm>
            <a:off x="428760" y="1363680"/>
            <a:ext cx="11509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еременные женщин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енщины, находящиеся в отпуске по беременности и рода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дагогические работники,  находящиеся  в  отпуске  по    уходу за ребенком до  достижения  им  возраста  трех  л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ттестация   указанных работников возможна не ранее чем через  два  год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ле  их    выхода из указанных отпус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сутствовавшие на рабочем месте более четырех месяцев подряд в связи с заболеванием.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ттестация возможна не ранее чем чере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д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дагогические работники, проработавшие в занимаемой должности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енее двух лет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в данной организации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Прямоугольник: скругленные углы 3"/>
          <p:cNvGrpSpPr/>
          <p:nvPr/>
        </p:nvGrpSpPr>
        <p:grpSpPr>
          <a:xfrm>
            <a:off x="4395960" y="1262160"/>
            <a:ext cx="7564320" cy="4346640"/>
            <a:chOff x="4395960" y="1262160"/>
            <a:chExt cx="7564320" cy="4346640"/>
          </a:xfrm>
        </p:grpSpPr>
        <p:pic>
          <p:nvPicPr>
            <p:cNvPr id="97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4395960" y="1262160"/>
              <a:ext cx="7564320" cy="43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627440" y="1494000"/>
              <a:ext cx="7101000" cy="38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9" name="Прямоугольник 6" descr=""/>
          <p:cNvPicPr/>
          <p:nvPr/>
        </p:nvPicPr>
        <p:blipFill>
          <a:blip r:embed="rId2"/>
          <a:stretch/>
        </p:blipFill>
        <p:spPr>
          <a:xfrm>
            <a:off x="4370400" y="2243160"/>
            <a:ext cx="7613640" cy="2341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"/>
          <p:cNvPicPr/>
          <p:nvPr/>
        </p:nvPicPr>
        <p:blipFill>
          <a:blip r:embed="rId3"/>
          <a:stretch/>
        </p:blipFill>
        <p:spPr>
          <a:xfrm>
            <a:off x="203040" y="1779480"/>
            <a:ext cx="41864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Прямоугольник: скругленные углы 3"/>
          <p:cNvGrpSpPr/>
          <p:nvPr/>
        </p:nvGrpSpPr>
        <p:grpSpPr>
          <a:xfrm>
            <a:off x="195120" y="152280"/>
            <a:ext cx="11765160" cy="1243080"/>
            <a:chOff x="195120" y="152280"/>
            <a:chExt cx="11765160" cy="1243080"/>
          </a:xfrm>
        </p:grpSpPr>
        <p:pic>
          <p:nvPicPr>
            <p:cNvPr id="102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195120" y="152280"/>
              <a:ext cx="1176516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76120" y="230040"/>
              <a:ext cx="1160316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4" name="Прямоугольник 6" descr=""/>
          <p:cNvPicPr/>
          <p:nvPr/>
        </p:nvPicPr>
        <p:blipFill>
          <a:blip r:embed="rId2"/>
          <a:stretch/>
        </p:blipFill>
        <p:spPr>
          <a:xfrm>
            <a:off x="255600" y="79200"/>
            <a:ext cx="11680920" cy="1560600"/>
          </a:xfrm>
          <a:prstGeom prst="rect">
            <a:avLst/>
          </a:prstGeom>
          <a:ln w="0">
            <a:noFill/>
          </a:ln>
        </p:spPr>
      </p:pic>
      <p:sp>
        <p:nvSpPr>
          <p:cNvPr id="105" name="Содержимое 2"/>
          <p:cNvSpPr/>
          <p:nvPr/>
        </p:nvSpPr>
        <p:spPr>
          <a:xfrm>
            <a:off x="428760" y="1603440"/>
            <a:ext cx="1150920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оводи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ин раз в пят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т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 основе оценки их профессиональной деятельности аттестационными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омиссиями, самостоятельно формируемыми организац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ттестация педагогических работников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имеющих квалификационных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тегорий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первой или высшей), включая педагогических работников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существляющих педагогическую деятельность помимо основной работы, а также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 совместительству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вляется обязатель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ешение о проведении аттестации педагогических работников принимае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одате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спорядительным актом руководителя организации создается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ттестационная комисс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одержимое 2"/>
          <p:cNvSpPr/>
          <p:nvPr/>
        </p:nvSpPr>
        <p:spPr>
          <a:xfrm>
            <a:off x="503280" y="304920"/>
            <a:ext cx="11271240" cy="63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результатам аттестации педагогического работника аттестационная комиссия принимает одно из следующих решени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оответствует занимаемой должности (указывается должность педагогического работник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 соответствует занимаемой должности (указывается должность педагогического работник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аттестационной комиссией принимается в отсутствие аттестуемого педагогического работника открытым голосованием большинством голосов присутствующих на заседании членов аттестационной коми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признания педагогического работника по результатам аттестации несоответствующим занимаемой должности вследствие недостаточной квалификации трудовой договор с ним может быть расторгнут в соответствии с пунктом 3 части 1 статьи 81 Трудового кодекса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аттестации заносятся в протоко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rcRect l="44621" t="45940" r="11646" b="18848"/>
          <a:stretch/>
        </p:blipFill>
        <p:spPr>
          <a:xfrm>
            <a:off x="1042920" y="1488960"/>
            <a:ext cx="8839440" cy="366876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2" descr=""/>
          <p:cNvPicPr/>
          <p:nvPr/>
        </p:nvPicPr>
        <p:blipFill>
          <a:blip r:embed="rId2"/>
          <a:stretch/>
        </p:blipFill>
        <p:spPr>
          <a:xfrm>
            <a:off x="4559400" y="291960"/>
            <a:ext cx="623088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Прямоугольник: скругленные углы 3"/>
          <p:cNvGrpSpPr/>
          <p:nvPr/>
        </p:nvGrpSpPr>
        <p:grpSpPr>
          <a:xfrm>
            <a:off x="4395960" y="1262160"/>
            <a:ext cx="7564320" cy="4346640"/>
            <a:chOff x="4395960" y="1262160"/>
            <a:chExt cx="7564320" cy="4346640"/>
          </a:xfrm>
        </p:grpSpPr>
        <p:pic>
          <p:nvPicPr>
            <p:cNvPr id="110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4395960" y="1262160"/>
              <a:ext cx="7564320" cy="43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627440" y="1494000"/>
              <a:ext cx="7101000" cy="38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" name="Прямоугольник 6" descr=""/>
          <p:cNvPicPr/>
          <p:nvPr/>
        </p:nvPicPr>
        <p:blipFill>
          <a:blip r:embed="rId2"/>
          <a:stretch/>
        </p:blipFill>
        <p:spPr>
          <a:xfrm>
            <a:off x="4419720" y="1847880"/>
            <a:ext cx="7516800" cy="35593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5" descr=""/>
          <p:cNvPicPr/>
          <p:nvPr/>
        </p:nvPicPr>
        <p:blipFill>
          <a:blip r:embed="rId3"/>
          <a:stretch/>
        </p:blipFill>
        <p:spPr>
          <a:xfrm>
            <a:off x="203040" y="1779480"/>
            <a:ext cx="41864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 Light"/>
              </a:rPr>
              <a:t>Первая квалификационная категория устанавливается педагогическим работникам, которые: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5" name="Объект 2" descr=""/>
          <p:cNvPicPr/>
          <p:nvPr/>
        </p:nvPicPr>
        <p:blipFill>
          <a:blip r:embed="rId1"/>
          <a:stretch/>
        </p:blipFill>
        <p:spPr>
          <a:xfrm>
            <a:off x="712800" y="1481040"/>
            <a:ext cx="1071720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 Light"/>
              </a:rPr>
              <a:t>Высшая квалификационная категория устанавливается педагогическим работникам, которые: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55360" y="1547280"/>
            <a:ext cx="104979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беспечивают достижение обучающимися положительной динамики результатов освоения образовательных программ по итогам мониторинга, проводимого организаци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беспечивают достижение обучающимися положительной динамики результатов освоения образовательных программ по итогам мониторинга, проводимого в порядке, установленном постановлением Правительства Российской Федерации от 5 августа 2013 г. № 66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беспечивают выявление и развитие способностей обучающихся к научной (интеллектуальной), творческой, физкультурно-спортивной деятельности, а также их участие в олимпиадах, конкурсах, фестивалях, соревнованиях (для педагогических работников, деятельность которых связана с указанными направлениями работы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вносят личный вклад в повышение качества образования на основе совершенствования методов обучения и воспитания, и продуктивного использования новых образовательных технологий, транслируют в педагогических коллективах опыт положительных результатов своей профессиональной деятельности, в том числе экспериментальной и инновацион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принимают активное участие в работе методических объединений педагогических работников организаций, в разработке программно-методического сопровождения образовательного процесса, профессиональных конкурс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Содержимое 2"/>
          <p:cNvSpPr/>
          <p:nvPr/>
        </p:nvSpPr>
        <p:spPr>
          <a:xfrm>
            <a:off x="243000" y="384120"/>
            <a:ext cx="1158876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аттестации осуществляется  беспла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ная на основании аттестации квалификационная категория педагогическим работникам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тельна в течение пяти лет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действия квалификационной категории продлению не подлежи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аттестации педагогическому работнику необходимо подать заявлен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позднее 3-х месяцев до окончания срока действия предыдущей аттестации необходимо направить заявление в отдел аттестации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если заявление было подано без учета сроков предыдущей аттестации, комиссия ответственности за разрыв сроков аттестации не нес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Аттестация – это только вершина айсберга, подводной частью которого является межаттестационный период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2" descr="https://tapoc.trbo.yandex.net/tapoc_secure_proxy/3c350cff4b874bdb438d0b833c1db066?url=http%3A%2F%2Fmult.me%2Fuploads%2Fposts%2F2009-08%2F1250791688_08900000.jpg"/>
          <p:cNvPicPr/>
          <p:nvPr/>
        </p:nvPicPr>
        <p:blipFill>
          <a:blip r:embed="rId1"/>
          <a:stretch/>
        </p:blipFill>
        <p:spPr>
          <a:xfrm>
            <a:off x="1969920" y="1847880"/>
            <a:ext cx="826452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Содержимое 2"/>
          <p:cNvSpPr/>
          <p:nvPr/>
        </p:nvSpPr>
        <p:spPr>
          <a:xfrm>
            <a:off x="395280" y="237960"/>
            <a:ext cx="11534760" cy="63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ная  оценка проводится на основ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ализа не менее 1-2  урок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других мероприятий, проводимых педагогом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учения  представленных материал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бочие программы по предмету, классный журнал, результаты внутришкольного  контроля (или  других  форм  контроля)  уровня  учебных достижений  обучающихся,  методические  и  дидактические  материалы, используемые  и  самостоятельно  подготовленные  педагогом,  дневники  и тетради  обучающихся,  материалы  родительских  собраний  и  др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еды  с руководителе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местителем)  образовательного  учреждения  и аттестующимся педагог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онная комиссия на основе экспертного заключения об оценке результатов профессиональной деятельности, подготовленного экспертной группой, принимает решения о соответствии или несоответствии уровня квалификации работника требованиям, предъявляемым к заявленной (первой или высшей) квалификационной категор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Результаты аттестации педагогических работников оформляется протоколом и  утверждается приказом Министер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Содержимое 2"/>
          <p:cNvSpPr/>
          <p:nvPr/>
        </p:nvSpPr>
        <p:spPr>
          <a:xfrm>
            <a:off x="243000" y="384120"/>
            <a:ext cx="1169964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 работники могут обратиться в аттестационную комиссию с заявлением о проведении аттестации для установления соответствия уровня их квалификации требованиям, предъявляемым к первой или высшей квалификационной категории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зависимо от продолжительности их работы в организаци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в период нахождения в отпуске по уходу за ребенком до достижения им возраста трех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педагогических работников в аттестационную комиссию с заявлением о проведении аттестации для установления соответствия уровня их квалификации требованиям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ъявляемым к высшей квалификационной категории впервые, возможно не ранее чем через два года после установления 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ечение срока действия высшей квалификационной категории не ограничивает пра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работников обращаться в  аттестационную комиссию с заявлением о прохождении аттестации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ту же квалификационную категорию по той же должност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признания педагогического работника не соответствующим заявленной квалификационной категории аттестация на ту же квалификационную категорию может проводить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ранее чем через г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дня принятия соответствующего решения аттестационной комисси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одержимое 2"/>
          <p:cNvSpPr/>
          <p:nvPr/>
        </p:nvSpPr>
        <p:spPr>
          <a:xfrm>
            <a:off x="395280" y="237960"/>
            <a:ext cx="11534760" cy="63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1"/>
          <a:srcRect l="41655" t="25015" r="8962" b="9109"/>
          <a:stretch/>
        </p:blipFill>
        <p:spPr>
          <a:xfrm>
            <a:off x="1542960" y="260280"/>
            <a:ext cx="957600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Прямоугольник: скругленные углы 3"/>
          <p:cNvGrpSpPr/>
          <p:nvPr/>
        </p:nvGrpSpPr>
        <p:grpSpPr>
          <a:xfrm>
            <a:off x="4395960" y="1262160"/>
            <a:ext cx="7564320" cy="4346640"/>
            <a:chOff x="4395960" y="1262160"/>
            <a:chExt cx="7564320" cy="4346640"/>
          </a:xfrm>
        </p:grpSpPr>
        <p:pic>
          <p:nvPicPr>
            <p:cNvPr id="124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4395960" y="1262160"/>
              <a:ext cx="7564320" cy="43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627440" y="1494000"/>
              <a:ext cx="7101000" cy="38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6" name="Прямоугольник 6" descr=""/>
          <p:cNvPicPr/>
          <p:nvPr/>
        </p:nvPicPr>
        <p:blipFill>
          <a:blip r:embed="rId2"/>
          <a:stretch/>
        </p:blipFill>
        <p:spPr>
          <a:xfrm>
            <a:off x="4419720" y="2938320"/>
            <a:ext cx="7516800" cy="1121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"/>
          <p:cNvPicPr/>
          <p:nvPr/>
        </p:nvPicPr>
        <p:blipFill>
          <a:blip r:embed="rId3"/>
          <a:stretch/>
        </p:blipFill>
        <p:spPr>
          <a:xfrm>
            <a:off x="203040" y="1779480"/>
            <a:ext cx="41864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Прямоугольник: скругленные углы 3"/>
          <p:cNvGrpSpPr/>
          <p:nvPr/>
        </p:nvGrpSpPr>
        <p:grpSpPr>
          <a:xfrm>
            <a:off x="4395960" y="1262160"/>
            <a:ext cx="7564320" cy="4346640"/>
            <a:chOff x="4395960" y="1262160"/>
            <a:chExt cx="7564320" cy="4346640"/>
          </a:xfrm>
        </p:grpSpPr>
        <p:pic>
          <p:nvPicPr>
            <p:cNvPr id="129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4395960" y="1262160"/>
              <a:ext cx="7564320" cy="43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627440" y="1494000"/>
              <a:ext cx="7101000" cy="38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Прямоугольник 6" descr=""/>
          <p:cNvPicPr/>
          <p:nvPr/>
        </p:nvPicPr>
        <p:blipFill>
          <a:blip r:embed="rId2"/>
          <a:stretch/>
        </p:blipFill>
        <p:spPr>
          <a:xfrm>
            <a:off x="4389480" y="1407960"/>
            <a:ext cx="7620120" cy="41212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"/>
          <p:cNvPicPr/>
          <p:nvPr/>
        </p:nvPicPr>
        <p:blipFill>
          <a:blip r:embed="rId3"/>
          <a:stretch/>
        </p:blipFill>
        <p:spPr>
          <a:xfrm>
            <a:off x="203040" y="1779480"/>
            <a:ext cx="4186440" cy="32576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5356080" y="58276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Прямоугольник: скругленные углы 3"/>
          <p:cNvGrpSpPr/>
          <p:nvPr/>
        </p:nvGrpSpPr>
        <p:grpSpPr>
          <a:xfrm>
            <a:off x="4395960" y="1262160"/>
            <a:ext cx="7564320" cy="4346640"/>
            <a:chOff x="4395960" y="1262160"/>
            <a:chExt cx="7564320" cy="4346640"/>
          </a:xfrm>
        </p:grpSpPr>
        <p:pic>
          <p:nvPicPr>
            <p:cNvPr id="135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4395960" y="1262160"/>
              <a:ext cx="7564320" cy="43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627440" y="1494000"/>
              <a:ext cx="7101000" cy="38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Прямоугольник 6"/>
          <p:cNvSpPr/>
          <p:nvPr/>
        </p:nvSpPr>
        <p:spPr>
          <a:xfrm>
            <a:off x="4389480" y="1809720"/>
            <a:ext cx="75214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кспертная группа осуществляет экспертизу на основ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менее 1- 2 уроков (90 минут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менее 1 урока (45 минут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менее 1 мероприят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5" descr=""/>
          <p:cNvPicPr/>
          <p:nvPr/>
        </p:nvPicPr>
        <p:blipFill>
          <a:blip r:embed="rId2"/>
          <a:stretch/>
        </p:blipFill>
        <p:spPr>
          <a:xfrm>
            <a:off x="203040" y="1779480"/>
            <a:ext cx="4186440" cy="32576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4"/>
          <p:cNvSpPr/>
          <p:nvPr/>
        </p:nvSpPr>
        <p:spPr>
          <a:xfrm>
            <a:off x="5356080" y="58276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менее 2-х уроков (90 мину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Прямоугольник: скругленные углы 3"/>
          <p:cNvGrpSpPr/>
          <p:nvPr/>
        </p:nvGrpSpPr>
        <p:grpSpPr>
          <a:xfrm>
            <a:off x="4395960" y="1262160"/>
            <a:ext cx="7564320" cy="4346640"/>
            <a:chOff x="4395960" y="1262160"/>
            <a:chExt cx="7564320" cy="4346640"/>
          </a:xfrm>
        </p:grpSpPr>
        <p:pic>
          <p:nvPicPr>
            <p:cNvPr id="141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4395960" y="1262160"/>
              <a:ext cx="7564320" cy="43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627440" y="1494000"/>
              <a:ext cx="7101000" cy="38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Прямоугольник 6"/>
          <p:cNvSpPr/>
          <p:nvPr/>
        </p:nvSpPr>
        <p:spPr>
          <a:xfrm>
            <a:off x="4389480" y="2125800"/>
            <a:ext cx="75214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ой срок в отдел аттестации РЦР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целью установления квалификационной категории (первой или высшей)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дагогическому работнику необходим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править заявление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5" descr=""/>
          <p:cNvPicPr/>
          <p:nvPr/>
        </p:nvPicPr>
        <p:blipFill>
          <a:blip r:embed="rId2"/>
          <a:stretch/>
        </p:blipFill>
        <p:spPr>
          <a:xfrm>
            <a:off x="203040" y="1779480"/>
            <a:ext cx="4186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"/>
          <p:cNvSpPr/>
          <p:nvPr/>
        </p:nvSpPr>
        <p:spPr>
          <a:xfrm>
            <a:off x="5356080" y="58276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позднее 3-х месяцев до окончания срока действия предыдущей аттес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Прямоугольник: скругленные углы 3"/>
          <p:cNvGrpSpPr/>
          <p:nvPr/>
        </p:nvGrpSpPr>
        <p:grpSpPr>
          <a:xfrm>
            <a:off x="4395960" y="1262160"/>
            <a:ext cx="7564320" cy="4346640"/>
            <a:chOff x="4395960" y="1262160"/>
            <a:chExt cx="7564320" cy="4346640"/>
          </a:xfrm>
        </p:grpSpPr>
        <p:pic>
          <p:nvPicPr>
            <p:cNvPr id="147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4395960" y="1262160"/>
              <a:ext cx="7564320" cy="43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627440" y="1494000"/>
              <a:ext cx="7101000" cy="38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Прямоугольник 6"/>
          <p:cNvSpPr/>
          <p:nvPr/>
        </p:nvSpPr>
        <p:spPr>
          <a:xfrm>
            <a:off x="4389480" y="2125800"/>
            <a:ext cx="7521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 аттестационной комиссии вступает в силу со дн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писания протоко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писания приказа Министер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я экспертиз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5" descr=""/>
          <p:cNvPicPr/>
          <p:nvPr/>
        </p:nvPicPr>
        <p:blipFill>
          <a:blip r:embed="rId2"/>
          <a:stretch/>
        </p:blipFill>
        <p:spPr>
          <a:xfrm>
            <a:off x="203040" y="1779480"/>
            <a:ext cx="4186440" cy="32576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1"/>
          <p:cNvSpPr/>
          <p:nvPr/>
        </p:nvSpPr>
        <p:spPr>
          <a:xfrm>
            <a:off x="5356080" y="58276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писания проток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Прямоугольник: скругленные углы 3"/>
          <p:cNvGrpSpPr/>
          <p:nvPr/>
        </p:nvGrpSpPr>
        <p:grpSpPr>
          <a:xfrm>
            <a:off x="4395960" y="1262160"/>
            <a:ext cx="7564320" cy="4346640"/>
            <a:chOff x="4395960" y="1262160"/>
            <a:chExt cx="7564320" cy="4346640"/>
          </a:xfrm>
        </p:grpSpPr>
        <p:pic>
          <p:nvPicPr>
            <p:cNvPr id="153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4395960" y="1262160"/>
              <a:ext cx="7564320" cy="43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627440" y="1494000"/>
              <a:ext cx="7101000" cy="38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Прямоугольник 6"/>
          <p:cNvSpPr/>
          <p:nvPr/>
        </p:nvSpPr>
        <p:spPr>
          <a:xfrm>
            <a:off x="4389480" y="2125800"/>
            <a:ext cx="7521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 ли пра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ический работн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азаться от прохождения аттест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целях подтвержд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ответствия занимаемой долж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5" descr=""/>
          <p:cNvPicPr/>
          <p:nvPr/>
        </p:nvPicPr>
        <p:blipFill>
          <a:blip r:embed="rId2"/>
          <a:stretch/>
        </p:blipFill>
        <p:spPr>
          <a:xfrm>
            <a:off x="203040" y="1779480"/>
            <a:ext cx="4186440" cy="325764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"/>
          <p:cNvSpPr/>
          <p:nvPr/>
        </p:nvSpPr>
        <p:spPr>
          <a:xfrm>
            <a:off x="5356080" y="58276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Прямоугольник: скругленные углы 3"/>
          <p:cNvGrpSpPr/>
          <p:nvPr/>
        </p:nvGrpSpPr>
        <p:grpSpPr>
          <a:xfrm>
            <a:off x="4395960" y="1262160"/>
            <a:ext cx="7564320" cy="4346640"/>
            <a:chOff x="4395960" y="1262160"/>
            <a:chExt cx="7564320" cy="4346640"/>
          </a:xfrm>
        </p:grpSpPr>
        <p:pic>
          <p:nvPicPr>
            <p:cNvPr id="159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4395960" y="1262160"/>
              <a:ext cx="7564320" cy="43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627440" y="1494000"/>
              <a:ext cx="7101000" cy="38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Прямоугольник 6"/>
          <p:cNvSpPr/>
          <p:nvPr/>
        </p:nvSpPr>
        <p:spPr>
          <a:xfrm>
            <a:off x="4389480" y="2125800"/>
            <a:ext cx="7521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определяет необходимость и сроки представления педагогических работников для прохождения ими аттестации в целях подтверждения соответствия занимаемой долж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5" descr=""/>
          <p:cNvPicPr/>
          <p:nvPr/>
        </p:nvPicPr>
        <p:blipFill>
          <a:blip r:embed="rId2"/>
          <a:stretch/>
        </p:blipFill>
        <p:spPr>
          <a:xfrm>
            <a:off x="203040" y="1779480"/>
            <a:ext cx="4186440" cy="325764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"/>
          <p:cNvSpPr/>
          <p:nvPr/>
        </p:nvSpPr>
        <p:spPr>
          <a:xfrm>
            <a:off x="5356080" y="58276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од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: скругленные углы 3"/>
          <p:cNvGrpSpPr/>
          <p:nvPr/>
        </p:nvGrpSpPr>
        <p:grpSpPr>
          <a:xfrm>
            <a:off x="3822840" y="1573200"/>
            <a:ext cx="8137440" cy="3303720"/>
            <a:chOff x="3822840" y="1573200"/>
            <a:chExt cx="8137440" cy="3303720"/>
          </a:xfrm>
        </p:grpSpPr>
        <p:pic>
          <p:nvPicPr>
            <p:cNvPr id="45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3822840" y="1573200"/>
              <a:ext cx="8137440" cy="33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005360" y="1755720"/>
              <a:ext cx="7773840" cy="29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Рисунок 5" descr=""/>
          <p:cNvPicPr/>
          <p:nvPr/>
        </p:nvPicPr>
        <p:blipFill>
          <a:blip r:embed="rId2"/>
          <a:stretch/>
        </p:blipFill>
        <p:spPr>
          <a:xfrm>
            <a:off x="357120" y="1596960"/>
            <a:ext cx="4187880" cy="32576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3"/>
          <a:stretch/>
        </p:blipFill>
        <p:spPr>
          <a:xfrm>
            <a:off x="3822840" y="1596960"/>
            <a:ext cx="83264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Прямоугольник: скругленные углы 3"/>
          <p:cNvGrpSpPr/>
          <p:nvPr/>
        </p:nvGrpSpPr>
        <p:grpSpPr>
          <a:xfrm>
            <a:off x="4395960" y="1262160"/>
            <a:ext cx="7564320" cy="4346640"/>
            <a:chOff x="4395960" y="1262160"/>
            <a:chExt cx="7564320" cy="4346640"/>
          </a:xfrm>
        </p:grpSpPr>
        <p:pic>
          <p:nvPicPr>
            <p:cNvPr id="165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4395960" y="1262160"/>
              <a:ext cx="7564320" cy="43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627440" y="1494000"/>
              <a:ext cx="7101000" cy="38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Прямоугольник 6"/>
          <p:cNvSpPr/>
          <p:nvPr/>
        </p:nvSpPr>
        <p:spPr>
          <a:xfrm>
            <a:off x="4389480" y="2125800"/>
            <a:ext cx="7521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ли аттестация педагогического работника в целях подтверждения соответствия занимаемой им должности проводиться по желанию работников на основании их заявле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5" descr=""/>
          <p:cNvPicPr/>
          <p:nvPr/>
        </p:nvPicPr>
        <p:blipFill>
          <a:blip r:embed="rId2"/>
          <a:stretch/>
        </p:blipFill>
        <p:spPr>
          <a:xfrm>
            <a:off x="203040" y="1779480"/>
            <a:ext cx="4186440" cy="325764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1"/>
          <p:cNvSpPr/>
          <p:nvPr/>
        </p:nvSpPr>
        <p:spPr>
          <a:xfrm>
            <a:off x="5356080" y="58276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Прямоугольник: скругленные углы 3"/>
          <p:cNvGrpSpPr/>
          <p:nvPr/>
        </p:nvGrpSpPr>
        <p:grpSpPr>
          <a:xfrm>
            <a:off x="4395960" y="1262160"/>
            <a:ext cx="7564320" cy="4346640"/>
            <a:chOff x="4395960" y="1262160"/>
            <a:chExt cx="7564320" cy="4346640"/>
          </a:xfrm>
        </p:grpSpPr>
        <p:pic>
          <p:nvPicPr>
            <p:cNvPr id="171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4395960" y="1262160"/>
              <a:ext cx="7564320" cy="43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627440" y="1494000"/>
              <a:ext cx="7101000" cy="38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Прямоугольник 6"/>
          <p:cNvSpPr/>
          <p:nvPr/>
        </p:nvSpPr>
        <p:spPr>
          <a:xfrm>
            <a:off x="4389480" y="2125800"/>
            <a:ext cx="752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ксируются ли в трудовой книжке педагогического работника результаты аттестации на соответствие занимаемой долж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Рисунок 5" descr=""/>
          <p:cNvPicPr/>
          <p:nvPr/>
        </p:nvPicPr>
        <p:blipFill>
          <a:blip r:embed="rId2"/>
          <a:stretch/>
        </p:blipFill>
        <p:spPr>
          <a:xfrm>
            <a:off x="203040" y="1779480"/>
            <a:ext cx="4186440" cy="32576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"/>
          <p:cNvSpPr/>
          <p:nvPr/>
        </p:nvSpPr>
        <p:spPr>
          <a:xfrm>
            <a:off x="5356080" y="58276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: скругленные углы 3"/>
          <p:cNvGrpSpPr/>
          <p:nvPr/>
        </p:nvGrpSpPr>
        <p:grpSpPr>
          <a:xfrm>
            <a:off x="4395960" y="1262160"/>
            <a:ext cx="7564320" cy="4346640"/>
            <a:chOff x="4395960" y="1262160"/>
            <a:chExt cx="7564320" cy="4346640"/>
          </a:xfrm>
        </p:grpSpPr>
        <p:pic>
          <p:nvPicPr>
            <p:cNvPr id="177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4395960" y="1262160"/>
              <a:ext cx="7564320" cy="43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627440" y="1494000"/>
              <a:ext cx="7101000" cy="38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Прямоугольник 6"/>
          <p:cNvSpPr/>
          <p:nvPr/>
        </p:nvSpPr>
        <p:spPr>
          <a:xfrm>
            <a:off x="4411800" y="2038320"/>
            <a:ext cx="752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яются ли результаты аттестации в целях подтверждения соответствия занимаемой должности одной образовательной организации при переходе в другую образовательную организацию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Рисунок 5" descr=""/>
          <p:cNvPicPr/>
          <p:nvPr/>
        </p:nvPicPr>
        <p:blipFill>
          <a:blip r:embed="rId2"/>
          <a:stretch/>
        </p:blipFill>
        <p:spPr>
          <a:xfrm>
            <a:off x="203040" y="1779480"/>
            <a:ext cx="4186440" cy="32576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1"/>
          <p:cNvSpPr/>
          <p:nvPr/>
        </p:nvSpPr>
        <p:spPr>
          <a:xfrm>
            <a:off x="5356080" y="58276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: скругленные углы 3"/>
          <p:cNvGrpSpPr/>
          <p:nvPr/>
        </p:nvGrpSpPr>
        <p:grpSpPr>
          <a:xfrm>
            <a:off x="4395960" y="1262160"/>
            <a:ext cx="7564320" cy="4346640"/>
            <a:chOff x="4395960" y="1262160"/>
            <a:chExt cx="7564320" cy="4346640"/>
          </a:xfrm>
        </p:grpSpPr>
        <p:pic>
          <p:nvPicPr>
            <p:cNvPr id="183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4395960" y="1262160"/>
              <a:ext cx="7564320" cy="43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627440" y="1494000"/>
              <a:ext cx="7101000" cy="38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Прямоугольник 6"/>
          <p:cNvSpPr/>
          <p:nvPr/>
        </p:nvSpPr>
        <p:spPr>
          <a:xfrm>
            <a:off x="4411800" y="2038320"/>
            <a:ext cx="752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ли педагогический работник претендовать на первую квалификационную категорию, если он не проходил аттестацию на подтверждение соответствия занимаемой долж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Рисунок 5" descr=""/>
          <p:cNvPicPr/>
          <p:nvPr/>
        </p:nvPicPr>
        <p:blipFill>
          <a:blip r:embed="rId2"/>
          <a:stretch/>
        </p:blipFill>
        <p:spPr>
          <a:xfrm>
            <a:off x="203040" y="1779480"/>
            <a:ext cx="4186440" cy="32576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1"/>
          <p:cNvSpPr/>
          <p:nvPr/>
        </p:nvSpPr>
        <p:spPr>
          <a:xfrm>
            <a:off x="5356080" y="58276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, мож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2040" y="3999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Пакет документов на аттестацию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02880" y="1382400"/>
            <a:ext cx="1045044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ий работник, решивший подать заявление о добровольной аттестации собирает пакет докуме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сбор докум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Личное заявление аттестуемого.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гистрацию заявления (в электронной систем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Аттестационный лист (заполняют зам. директора по УВР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Копия трудовой книжки (делает учитель 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Копии удостоверений о прохождении курсов (заверенные руководителем    образовательного учреждения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Порфоли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эти документы сканируются на диск и ли флеш – накопитель и складываются в папку-скоросшиват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ознакомление с индивидуальным графиком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304920" y="612720"/>
            <a:ext cx="113252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 I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та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согласовать с экспертами дату проведения экспертиз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этому числу подготови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крытый урок (заняти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ценочный лист урока (заняти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ртфоли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экспертное заключ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бланки учёта видов экспертной деятельности по аттестации педагогическ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ников (внутренняя экспертиза), подписанные директором (необходимо сделать  копи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 V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после проведенной внутренней экспертизы, где эксперты дали оценку проведенного мероприятия соответствующую категории и все подписали экспертное заключение, необходимо на новый диск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D RV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FF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канировать оценочный лист урока и экспертное заключение с подписями экспертов и аттестующегос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тем диск, оценочный лист урока (мероприятия), экспертное заключение и копии бланков учета видов экспертной деятельности относятся в ЦР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ечение месяца комиссия рассматривает заявление и назначает дату, место и время проведения аттестации. Срок прохождения аттестации не должен превышать 2 меся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 Light"/>
              </a:rPr>
              <a:t>План работы аттестационной комисси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03440" y="1218960"/>
            <a:ext cx="1065024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1. Изучение материалов УМК по дисциплинам аттестуемого преподавател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a5a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 Примерные программ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a5a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 Рабочие программ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a5a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 Календарно-тематические план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a5a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 Портфоли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a5a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2. Посещение занятий и внеучебных мероприятий. Выво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a5a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3. Анализ результатов учебной деятельност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a5a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 срезовые контрольные работы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a5a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 результаты, промежуточных аттестац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a5a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4. Изучение материалов методической работ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a5a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 разработк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a5a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 доклады, выступления на совещаниях, конференциях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a5a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5. Документы о прохождении курсов повышения квалифик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14320" y="1969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9"/>
          <p:cNvSpPr/>
          <p:nvPr/>
        </p:nvSpPr>
        <p:spPr>
          <a:xfrm>
            <a:off x="84240" y="23922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12"/>
          <p:cNvSpPr/>
          <p:nvPr/>
        </p:nvSpPr>
        <p:spPr>
          <a:xfrm>
            <a:off x="1433520" y="2263680"/>
            <a:ext cx="1075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814320" y="1951200"/>
            <a:ext cx="10704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927000" y="3090960"/>
            <a:ext cx="9904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Он лишь до тех пор способен на самом деле воспитывать и образовывать, пока сам работает над своим собственным воспитанием и образованием"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708120" y="642960"/>
            <a:ext cx="1041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Дистервег писал, имея в виду учителя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17080"/>
            <a:ext cx="10382400" cy="11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       </a:t>
            </a: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Успехов  в  работе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1" name="Picture 2" descr="http://wallpaperscraft.ru/image/uchitel_repetitor_yazyk_doska_bukvy_devochka_kosichki_80761_1920x1080.jpg"/>
          <p:cNvPicPr/>
          <p:nvPr/>
        </p:nvPicPr>
        <p:blipFill>
          <a:blip r:embed="rId1"/>
          <a:stretch/>
        </p:blipFill>
        <p:spPr>
          <a:xfrm>
            <a:off x="1871640" y="2133720"/>
            <a:ext cx="8866080" cy="3740040"/>
          </a:xfrm>
          <a:prstGeom prst="rect">
            <a:avLst/>
          </a:prstGeom>
          <a:ln w="9360">
            <a:solidFill>
              <a:srgbClr val="c00000"/>
            </a:solidFill>
            <a:prstDash val="sysDash"/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9840" y="3516480"/>
            <a:ext cx="10190160" cy="208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оценка профессиональных характеристик работника и соответствия его квалификационной категории в целях проверки его профпригодност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38000" y="1066320"/>
            <a:ext cx="8534520" cy="9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d0d0d"/>
                </a:solidFill>
                <a:uFillTx/>
                <a:latin typeface="Calibri"/>
              </a:rPr>
              <a:t>Аттест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G:\ОФОРМЛЕНИЕ\Мои картинки\CLIPART3\J0343299.WMF"/>
          <p:cNvPicPr/>
          <p:nvPr/>
        </p:nvPicPr>
        <p:blipFill>
          <a:blip r:embed="rId1"/>
          <a:stretch/>
        </p:blipFill>
        <p:spPr>
          <a:xfrm>
            <a:off x="465120" y="652320"/>
            <a:ext cx="2444760" cy="24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105156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тепень познаний, навыков, трудовых умений и опыта деятельности определенного работник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38000" y="1066320"/>
            <a:ext cx="8534520" cy="9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98989"/>
                </a:solidFill>
                <a:latin typeface="Arial Black"/>
              </a:rPr>
              <a:t>Квалифика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G:\ОФОРМЛЕНИЕ\школьная тема\teacher7.gif"/>
          <p:cNvPicPr/>
          <p:nvPr/>
        </p:nvPicPr>
        <p:blipFill>
          <a:blip r:embed="rId1"/>
          <a:stretch/>
        </p:blipFill>
        <p:spPr>
          <a:xfrm>
            <a:off x="360360" y="347760"/>
            <a:ext cx="1928880" cy="18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G:\ОФОРМЛЕНИЕ\Мои картинки\CLIPART3\J0343299.WMF"/>
          <p:cNvPicPr/>
          <p:nvPr/>
        </p:nvPicPr>
        <p:blipFill>
          <a:blip r:embed="rId1"/>
          <a:stretch/>
        </p:blipFill>
        <p:spPr>
          <a:xfrm>
            <a:off x="1143000" y="4143240"/>
            <a:ext cx="3259080" cy="2457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762120" y="1071720"/>
            <a:ext cx="110487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ериодичность и сроки аттес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проводится  1 раз в 5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ая категория присваивается сроком на  5 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действия квалификационной категории продлению не подлежи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Прямоугольник: скругленные углы 3"/>
          <p:cNvGrpSpPr/>
          <p:nvPr/>
        </p:nvGrpSpPr>
        <p:grpSpPr>
          <a:xfrm>
            <a:off x="195120" y="152280"/>
            <a:ext cx="11765160" cy="1000080"/>
            <a:chOff x="195120" y="152280"/>
            <a:chExt cx="11765160" cy="1000080"/>
          </a:xfrm>
        </p:grpSpPr>
        <p:pic>
          <p:nvPicPr>
            <p:cNvPr id="58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195120" y="152280"/>
              <a:ext cx="117651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64960" y="219240"/>
              <a:ext cx="1162692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Прямоугольник 6" descr=""/>
          <p:cNvPicPr/>
          <p:nvPr/>
        </p:nvPicPr>
        <p:blipFill>
          <a:blip r:embed="rId2"/>
          <a:stretch/>
        </p:blipFill>
        <p:spPr>
          <a:xfrm>
            <a:off x="255600" y="219240"/>
            <a:ext cx="11680920" cy="1012680"/>
          </a:xfrm>
          <a:prstGeom prst="rect">
            <a:avLst/>
          </a:prstGeom>
          <a:ln w="0">
            <a:noFill/>
          </a:ln>
        </p:spPr>
      </p:pic>
      <p:grpSp>
        <p:nvGrpSpPr>
          <p:cNvPr id="61" name="Прямоугольник 1"/>
          <p:cNvGrpSpPr/>
          <p:nvPr/>
        </p:nvGrpSpPr>
        <p:grpSpPr>
          <a:xfrm>
            <a:off x="6199200" y="1560600"/>
            <a:ext cx="5565600" cy="1596960"/>
            <a:chOff x="6199200" y="1560600"/>
            <a:chExt cx="5565600" cy="1596960"/>
          </a:xfrm>
        </p:grpSpPr>
        <p:pic>
          <p:nvPicPr>
            <p:cNvPr id="62" name="Прямоугольник 1" descr=""/>
            <p:cNvPicPr/>
            <p:nvPr/>
          </p:nvPicPr>
          <p:blipFill>
            <a:blip r:embed="rId3"/>
            <a:stretch/>
          </p:blipFill>
          <p:spPr>
            <a:xfrm>
              <a:off x="6199200" y="1560600"/>
              <a:ext cx="556560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229080" y="1574640"/>
              <a:ext cx="5504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 целях установления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валификационной категории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(первой и высшей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Прямоугольник 2"/>
          <p:cNvGrpSpPr/>
          <p:nvPr/>
        </p:nvGrpSpPr>
        <p:grpSpPr>
          <a:xfrm>
            <a:off x="665280" y="1560600"/>
            <a:ext cx="4778280" cy="1596960"/>
            <a:chOff x="665280" y="1560600"/>
            <a:chExt cx="4778280" cy="1596960"/>
          </a:xfrm>
        </p:grpSpPr>
        <p:pic>
          <p:nvPicPr>
            <p:cNvPr id="65" name="Прямоугольник 2" descr=""/>
            <p:cNvPicPr/>
            <p:nvPr/>
          </p:nvPicPr>
          <p:blipFill>
            <a:blip r:embed="rId4"/>
            <a:stretch/>
          </p:blipFill>
          <p:spPr>
            <a:xfrm>
              <a:off x="665280" y="1560600"/>
              <a:ext cx="4778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82560" y="1574640"/>
              <a:ext cx="4745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 целях подтверждени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ответствия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занимаемой должности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7" name="Прямая со стрелкой 10"/>
          <p:cNvCxnSpPr/>
          <p:nvPr/>
        </p:nvCxnSpPr>
        <p:spPr>
          <a:xfrm flipH="1">
            <a:off x="3293280" y="1131480"/>
            <a:ext cx="451800" cy="469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Прямая со стрелкой 11"/>
          <p:cNvCxnSpPr/>
          <p:nvPr/>
        </p:nvCxnSpPr>
        <p:spPr>
          <a:xfrm>
            <a:off x="7656480" y="1109160"/>
            <a:ext cx="450000" cy="469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TextBox 12"/>
          <p:cNvSpPr/>
          <p:nvPr/>
        </p:nvSpPr>
        <p:spPr>
          <a:xfrm>
            <a:off x="7036200" y="3429000"/>
            <a:ext cx="4170600" cy="2654280"/>
          </a:xfrm>
          <a:prstGeom prst="rect">
            <a:avLst/>
          </a:prstGeom>
          <a:noFill/>
          <a:ln w="9360">
            <a:solidFill>
              <a:srgbClr val="00a4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оди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аевым центр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ценки качества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 ст. №49 Фед. зак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9.12.2012 г. №273- Ф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РФ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430920" y="3429000"/>
            <a:ext cx="5248080" cy="3020040"/>
          </a:xfrm>
          <a:prstGeom prst="rect">
            <a:avLst/>
          </a:prstGeom>
          <a:noFill/>
          <a:ln w="9360">
            <a:solidFill>
              <a:srgbClr val="00a4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оди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овательными организациям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уществляющими образовательну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2 ст. №29 Фед. зак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9.12.2012 г. №273- Ф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РФ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Прямоугольник: скругленные углы 17"/>
          <p:cNvGrpSpPr/>
          <p:nvPr/>
        </p:nvGrpSpPr>
        <p:grpSpPr>
          <a:xfrm>
            <a:off x="231840" y="317520"/>
            <a:ext cx="11764800" cy="689040"/>
            <a:chOff x="231840" y="317520"/>
            <a:chExt cx="11764800" cy="689040"/>
          </a:xfrm>
        </p:grpSpPr>
        <p:pic>
          <p:nvPicPr>
            <p:cNvPr id="72" name="Прямоугольник: скругленные углы 17" descr=""/>
            <p:cNvPicPr/>
            <p:nvPr/>
          </p:nvPicPr>
          <p:blipFill>
            <a:blip r:embed="rId1"/>
            <a:stretch/>
          </p:blipFill>
          <p:spPr>
            <a:xfrm>
              <a:off x="231840" y="317520"/>
              <a:ext cx="117648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85840" y="372960"/>
              <a:ext cx="1165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55600" y="219240"/>
            <a:ext cx="11680920" cy="1012680"/>
          </a:xfrm>
          <a:prstGeom prst="rect">
            <a:avLst/>
          </a:prstGeom>
          <a:ln w="0">
            <a:noFill/>
          </a:ln>
        </p:spPr>
      </p:pic>
      <p:cxnSp>
        <p:nvCxnSpPr>
          <p:cNvPr id="75" name="Прямая со стрелкой 10"/>
          <p:cNvCxnSpPr/>
          <p:nvPr/>
        </p:nvCxnSpPr>
        <p:spPr>
          <a:xfrm flipH="1">
            <a:off x="3291840" y="1131480"/>
            <a:ext cx="453240" cy="261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Прямая со стрелкой 11"/>
          <p:cNvCxnSpPr/>
          <p:nvPr/>
        </p:nvCxnSpPr>
        <p:spPr>
          <a:xfrm>
            <a:off x="7656480" y="1109520"/>
            <a:ext cx="362520" cy="310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TextBox 12"/>
          <p:cNvSpPr/>
          <p:nvPr/>
        </p:nvSpPr>
        <p:spPr>
          <a:xfrm>
            <a:off x="6098760" y="1430280"/>
            <a:ext cx="5212800" cy="1922760"/>
          </a:xfrm>
          <a:prstGeom prst="rect">
            <a:avLst/>
          </a:prstGeom>
          <a:noFill/>
          <a:ln w="9360">
            <a:solidFill>
              <a:srgbClr val="00a4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становление соответствия уровн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валификации педагогическ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ботников требования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дъявляемым к квалификационны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тегориям (первой или высше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721080" y="1427040"/>
            <a:ext cx="4527000" cy="1922760"/>
          </a:xfrm>
          <a:prstGeom prst="rect">
            <a:avLst/>
          </a:prstGeom>
          <a:noFill/>
          <a:ln w="9360">
            <a:solidFill>
              <a:srgbClr val="00a4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тверждение соответств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нимаемым ими должност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 основе оценки 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фессиональной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одержимое 2"/>
          <p:cNvSpPr/>
          <p:nvPr/>
        </p:nvSpPr>
        <p:spPr>
          <a:xfrm>
            <a:off x="620640" y="4397400"/>
            <a:ext cx="109504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гиа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сть,  обеспечивающие объективное отношение к педагогическим работник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стимость дискриминации при проведении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Прямоугольник: скругленные углы 15"/>
          <p:cNvGrpSpPr/>
          <p:nvPr/>
        </p:nvGrpSpPr>
        <p:grpSpPr>
          <a:xfrm>
            <a:off x="231840" y="3571920"/>
            <a:ext cx="11764800" cy="689040"/>
            <a:chOff x="231840" y="3571920"/>
            <a:chExt cx="11764800" cy="689040"/>
          </a:xfrm>
        </p:grpSpPr>
        <p:pic>
          <p:nvPicPr>
            <p:cNvPr id="81" name="Прямоугольник: скругленные углы 15" descr=""/>
            <p:cNvPicPr/>
            <p:nvPr/>
          </p:nvPicPr>
          <p:blipFill>
            <a:blip r:embed="rId3"/>
            <a:stretch/>
          </p:blipFill>
          <p:spPr>
            <a:xfrm>
              <a:off x="231840" y="3571920"/>
              <a:ext cx="117648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85840" y="3625920"/>
              <a:ext cx="116568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3" name="Прямоугольник 16" descr=""/>
          <p:cNvPicPr/>
          <p:nvPr/>
        </p:nvPicPr>
        <p:blipFill>
          <a:blip r:embed="rId4"/>
          <a:stretch/>
        </p:blipFill>
        <p:spPr>
          <a:xfrm>
            <a:off x="291960" y="3492360"/>
            <a:ext cx="116809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Прямоугольник: скругленные углы 3"/>
          <p:cNvGrpSpPr/>
          <p:nvPr/>
        </p:nvGrpSpPr>
        <p:grpSpPr>
          <a:xfrm>
            <a:off x="-23760" y="139680"/>
            <a:ext cx="11764800" cy="1006560"/>
            <a:chOff x="-23760" y="139680"/>
            <a:chExt cx="11764800" cy="1006560"/>
          </a:xfrm>
        </p:grpSpPr>
        <p:pic>
          <p:nvPicPr>
            <p:cNvPr id="85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-23760" y="139680"/>
              <a:ext cx="117648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7520" y="209520"/>
              <a:ext cx="1162548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Прямоугольник 6" descr=""/>
          <p:cNvPicPr/>
          <p:nvPr/>
        </p:nvPicPr>
        <p:blipFill>
          <a:blip r:embed="rId2"/>
          <a:stretch/>
        </p:blipFill>
        <p:spPr>
          <a:xfrm>
            <a:off x="255600" y="219240"/>
            <a:ext cx="11680920" cy="1012680"/>
          </a:xfrm>
          <a:prstGeom prst="rect">
            <a:avLst/>
          </a:prstGeom>
          <a:ln w="0">
            <a:noFill/>
          </a:ln>
        </p:spPr>
      </p:pic>
      <p:sp>
        <p:nvSpPr>
          <p:cNvPr id="88" name="Содержимое 2"/>
          <p:cNvSpPr/>
          <p:nvPr/>
        </p:nvSpPr>
        <p:spPr>
          <a:xfrm>
            <a:off x="254160" y="1279440"/>
            <a:ext cx="1168380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целенаправленного, непрерывного повышения уровня квалификации педагогических работников, их методологической культуры, профессионального и личностного рост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необходимости повышения квалификации педагогических работник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эффективности и качества педагогической деятельност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перспектив использования потенциальных возможностей педагогических работник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т требований ФГОС к кадровым условиям реализации образовательных программ при формировании кадрового состава организац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дифференциации размеров оплаты труда педагогических работников с учетом установленной квалификационной категории и объема их преподавательской (педагогической) работ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8T11:28:54Z</dcterms:created>
  <dc:creator>Наталья Ельчина</dc:creator>
  <dc:description/>
  <dc:language>en-US</dc:language>
  <cp:lastModifiedBy>Windows User</cp:lastModifiedBy>
  <dcterms:modified xsi:type="dcterms:W3CDTF">2022-10-19T08:45:35Z</dcterms:modified>
  <cp:revision>35</cp:revision>
  <dc:subject/>
  <dc:title>Презентация PowerPoint</dc:title>
</cp:coreProperties>
</file>